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45D-B4FD-4071-82E5-1514A69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6BA-FD98-4323-8E0E-9A75E9D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6169-C976-4754-8A84-7FF93C1C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AE7-2911-4FF0-B77E-E49107CE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B1D-947E-4508-BB49-445C2E4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EF8-366D-4F49-8BE3-7217E0F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720-F74A-436B-8A8E-242111E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07C-DB3A-4ECD-8F4F-7B116EC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EBB-6EC5-499C-A86B-D9531C40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F82-F015-4614-8A76-7F08653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288-7687-4C57-91CE-A46DD65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8DB-0761-429B-A043-B1A3D493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E683-5CAA-48FB-82B7-D1343CFC1DC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066680"/>
            <a:ext cx="7223400" cy="42735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335320" y="274680"/>
            <a:ext cx="397980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57720" y="78588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مجامع تجار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71280" y="5357880"/>
            <a:ext cx="78584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8:03:01Z</dcterms:modified>
  <cp:revision>41</cp:revision>
  <dc:subject/>
  <dc:title>Slide 1</dc:title>
</cp:coreProperties>
</file>