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87ED-8D7D-451D-BC48-DFC37E721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5B72-FA50-4EBE-851C-E10145DE0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7C23-A897-4DBB-AFCD-CB36ED9A0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2A83-800E-4603-9150-403F0CF6D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6DFC-1180-408B-AC3B-DC03F51C2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D41F-2C38-420E-8A74-6004C86FB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E947-532E-40E6-BFAF-1A3CD1CE2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9810-4E43-4596-908F-0B986BA3C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7617-6DDB-40DD-947D-C88035DBD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3CDB-CCB5-457F-ACF4-8DFC2910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5233-B00C-403C-B9D1-0ADD20ED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1606-E140-42B3-BA26-22AA3084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CC847-7B36-43A6-B154-522C48C7A2EF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ar3.jpg"/>
          <p:cNvPicPr/>
          <p:nvPr/>
        </p:nvPicPr>
        <p:blipFill>
          <a:blip r:embed="rId1"/>
          <a:stretch/>
        </p:blipFill>
        <p:spPr>
          <a:xfrm>
            <a:off x="1000080" y="357120"/>
            <a:ext cx="6350040" cy="6350040"/>
          </a:xfrm>
          <a:prstGeom prst="rect">
            <a:avLst/>
          </a:prstGeom>
          <a:ln w="0">
            <a:noFill/>
          </a:ln>
        </p:spPr>
      </p:pic>
      <p:pic>
        <p:nvPicPr>
          <p:cNvPr id="42" name="Table 4" descr=""/>
          <p:cNvPicPr/>
          <p:nvPr/>
        </p:nvPicPr>
        <p:blipFill>
          <a:blip r:embed="rId2"/>
          <a:stretch/>
        </p:blipFill>
        <p:spPr>
          <a:xfrm>
            <a:off x="853920" y="1139760"/>
            <a:ext cx="7223400" cy="427356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5" descr=""/>
          <p:cNvPicPr/>
          <p:nvPr/>
        </p:nvPicPr>
        <p:blipFill>
          <a:blip r:embed="rId3"/>
          <a:stretch/>
        </p:blipFill>
        <p:spPr>
          <a:xfrm>
            <a:off x="-152280" y="-165240"/>
            <a:ext cx="2322360" cy="2152800"/>
          </a:xfrm>
          <a:prstGeom prst="rect">
            <a:avLst/>
          </a:prstGeom>
          <a:ln w="0">
            <a:noFill/>
          </a:ln>
        </p:spPr>
      </p:pic>
      <p:pic>
        <p:nvPicPr>
          <p:cNvPr id="44" name="TextBox 6" descr=""/>
          <p:cNvPicPr/>
          <p:nvPr/>
        </p:nvPicPr>
        <p:blipFill>
          <a:blip r:embed="rId4"/>
          <a:stretch/>
        </p:blipFill>
        <p:spPr>
          <a:xfrm>
            <a:off x="6456240" y="-165240"/>
            <a:ext cx="2853000" cy="227520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8" descr=""/>
          <p:cNvPicPr/>
          <p:nvPr/>
        </p:nvPicPr>
        <p:blipFill>
          <a:blip r:embed="rId5"/>
          <a:stretch/>
        </p:blipFill>
        <p:spPr>
          <a:xfrm>
            <a:off x="2584440" y="353880"/>
            <a:ext cx="3938760" cy="579600"/>
          </a:xfrm>
          <a:prstGeom prst="rect">
            <a:avLst/>
          </a:prstGeom>
          <a:ln w="0">
            <a:noFill/>
          </a:ln>
        </p:spPr>
      </p:pic>
      <p:sp>
        <p:nvSpPr>
          <p:cNvPr id="46" name="TextBox 9"/>
          <p:cNvSpPr/>
          <p:nvPr/>
        </p:nvSpPr>
        <p:spPr>
          <a:xfrm>
            <a:off x="3071880" y="85716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17375e"/>
                </a:solidFill>
                <a:latin typeface="Calibri"/>
                <a:cs typeface="B Farnaz"/>
              </a:rPr>
              <a:t>طراحی شده ویژه تعمیرگاه ها و خدمات پس از فرو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ooter Placeholder 10"/>
          <p:cNvSpPr/>
          <p:nvPr/>
        </p:nvSpPr>
        <p:spPr>
          <a:xfrm>
            <a:off x="71280" y="5429160"/>
            <a:ext cx="785844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آدرس : خراسان رضوی، مشهدمقدس ،بلوارشهیددستغیب ،شهیددستغیب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18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 ،سمت چپ ،سرنبش سه راه ،پلاک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97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،طبقه او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تلفن :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051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7630374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  </a:t>
            </a:r>
            <a:r>
              <a:rPr b="0" lang="fa-IR" sz="9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مدیریت :  </a:t>
            </a:r>
            <a:r>
              <a:rPr b="0" lang="fa-I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155178075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 </a:t>
            </a:r>
            <a:r>
              <a:rPr b="0" lang="fa-I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38566038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ایمیل 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B Homa"/>
              </a:rPr>
              <a:t>novin_narmafzar75@yahoo.com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                آدرس اینترنتی 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B Homa"/>
              </a:rPr>
              <a:t>www.novinrayan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                                        سفارشات نرم افزار و طراحی سایت پذیرفته می ش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08:50:56Z</dcterms:created>
  <dc:creator>a</dc:creator>
  <dc:description/>
  <dc:language>en-US</dc:language>
  <cp:lastModifiedBy>novinrayane</cp:lastModifiedBy>
  <dcterms:modified xsi:type="dcterms:W3CDTF">2013-11-11T07:58:34Z</dcterms:modified>
  <cp:revision>40</cp:revision>
  <dc:subject/>
  <dc:title>Slide 1</dc:title>
</cp:coreProperties>
</file>