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109-974B-4B5F-8DE0-25240A2A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4F7-AF06-4C6D-A3EB-57561FEC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7DC-592C-488A-93A2-0BD93C49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C03-AAB0-4556-965B-676EC823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A5B-012F-43CA-90B0-502BB3B5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B84-4AE2-4686-B178-2F96376C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77A-D372-41E4-B4D0-E4C97C3C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B33-1CEA-49B7-909E-88023146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840-6F91-4372-BCF8-4AA59A8E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9B4-CF80-4654-9C16-E14538A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09A-5573-41AB-912D-BFB21A14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95F-ACBB-450D-8879-7540275A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DD31-0C37-439F-B56E-8A555FD57E0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000080"/>
            <a:ext cx="7223400" cy="42670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792520" y="49320"/>
            <a:ext cx="302256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286080" y="630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باشگاه های ورزش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35788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56:13Z</dcterms:modified>
  <cp:revision>38</cp:revision>
  <dc:subject/>
  <dc:title>Slide 1</dc:title>
</cp:coreProperties>
</file>