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F0E-5F13-4BF7-AED7-20880D19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165-ECDE-4E2F-9714-ADECFC4D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113-DA63-4240-B20C-6F8B82EB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90F-5F42-41E1-A84A-9956D57E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856-EB9F-4932-BA01-43A4BF58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068-53B0-4C76-BA87-3C0D3A83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CCB-BBDB-4A5E-ABDE-8282F231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E40-7F0A-447A-8BBB-4631E290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DBF-504A-44B5-B150-E979F5C4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490-A883-433D-A3CB-BAA471FC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CD1-58C3-4398-9E6C-50D1DCC4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8AF-C08A-49AC-B11A-7406E299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7685-A130-40A9-AAF2-9116C30AD177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871640"/>
            <a:ext cx="7223400" cy="29862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724120" y="566640"/>
            <a:ext cx="3110040" cy="6717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571920" y="1201680"/>
            <a:ext cx="15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اصن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072040"/>
            <a:ext cx="78584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54:46Z</dcterms:modified>
  <cp:revision>38</cp:revision>
  <dc:subject/>
  <dc:title>Slide 1</dc:title>
</cp:coreProperties>
</file>