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BF0-B178-4EED-8F29-8114BC09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F12-37A5-4AAD-992C-CA53250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FE0-9B46-4449-AE8B-9DF15580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055-4A05-4047-936D-83C76C5D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E66-3A49-4A9E-A3F0-F3B5301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157-DDDD-44CA-9F84-B00509A6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362-2E70-4CA3-9818-CFDCA04A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092-6B07-4910-86DB-143B27C2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435-3FEF-4D5C-A1A3-36782A24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59B-7746-4453-9993-7E80E17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05E-52A7-4416-9848-A96B0A2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039-2DCD-4100-9B80-9D79475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5911-42BD-4B05-9CEA-ABBC5C91C6E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novinrayane.com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585720"/>
            <a:ext cx="7436160" cy="5418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262080" y="-146160"/>
            <a:ext cx="2127240" cy="197496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66040" y="-365040"/>
            <a:ext cx="2790720" cy="218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743200" y="-128520"/>
            <a:ext cx="350532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500280" y="2858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رستور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14200" y="6072120"/>
            <a:ext cx="7858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B Homa"/>
                <a:hlinkClick r:id="rId6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53:28Z</dcterms:modified>
  <cp:revision>55</cp:revision>
  <dc:subject/>
  <dc:title>Slide 1</dc:title>
</cp:coreProperties>
</file>