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195A-00C6-4101-9DC4-8498597A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E34-4A70-4524-9C95-7CDB0D9A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D277-1282-4D36-97CE-EFC0D0A1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6B7-5082-4BA5-8546-2B8C1B86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794-7533-4A9D-9750-59792D88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4EE-AD63-461F-8177-9237869F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AF49-AA5E-448D-B686-977C488E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8D3-F40B-4130-8872-845B1A25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869E-BF77-4AD4-976A-76F0839B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F50-AD42-4CEA-877A-03F0DE2E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B6B-7B0A-4EEF-AD69-F46A909B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DFD-5006-4AA9-934D-F6CEA7E1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6560-E5B1-4ADC-94BB-312F81C16877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785880"/>
            <a:ext cx="7223400" cy="459108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859120" y="-60480"/>
            <a:ext cx="3255840" cy="614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429000" y="50004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پخش کنندگ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71280" y="5357880"/>
            <a:ext cx="78584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7:48:06Z</dcterms:modified>
  <cp:revision>39</cp:revision>
  <dc:subject/>
  <dc:title>Slide 1</dc:title>
</cp:coreProperties>
</file>