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F98-E771-4D76-A54D-02C6C5B7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150-6A3A-4CAE-9C78-7B2B456C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FC6-53C0-492E-97BD-A948BAAB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104-AF35-47AB-998A-EFB38960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0BC-967A-484F-BA33-5A3ECF08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6C4-B579-4EFD-BE6E-CA5DE534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9C2-B6DD-4AED-93F9-21979A3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7E1-CF2C-49B1-86F2-56266009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472-430C-4E5F-926A-795D5EEA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9F2-19D4-4DE6-B825-92094C73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801-E1EA-4FA3-AC10-F06D6A28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CCD-9BE9-4EF0-A24C-7AD3189B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E26-1CBE-48C3-A988-574D7715C4A2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785880"/>
            <a:ext cx="7223400" cy="49132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517840" y="23760"/>
            <a:ext cx="3670200" cy="592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721240" y="50004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اصن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71500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14:10Z</dcterms:modified>
  <cp:revision>40</cp:revision>
  <dc:subject/>
  <dc:title>Slide 1</dc:title>
</cp:coreProperties>
</file>