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CC62-2022-486B-83AF-EC842DDA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722-2FED-4C54-9924-4F97BDC5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B32A-5F34-44D7-8AA9-33A23388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3001-13E0-4BE8-9923-7881E5FC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A07-6C4E-4421-9B81-5935133F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301C-110F-4F05-8826-FF7E067C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885-6AAE-4B75-ACFB-3A6F02D9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F57E-B3A5-4A4A-95A7-76008D17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294-EF03-4A89-9609-F20AC8D1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1CD-2A7C-4596-B8A2-C382926A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024-694C-4B29-91B5-24AB2779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71B-0B80-491A-B8CF-56F24AC1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F7D6-2780-4E71-8AE1-28A97C4FE085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517760"/>
            <a:ext cx="7223400" cy="362736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468520" y="347760"/>
            <a:ext cx="391320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429000" y="92880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کتاب فروشی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2071800" y="5143680"/>
            <a:ext cx="5857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03:33Z</dcterms:modified>
  <cp:revision>39</cp:revision>
  <dc:subject/>
  <dc:title>Slide 1</dc:title>
</cp:coreProperties>
</file>