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499-B593-44D8-998D-67D30679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32F-07A3-40F7-AA4D-A63D94FF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547-9CBF-409C-8F2D-508DD8EC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E1B-4C19-40AD-8BEC-AE9CAD97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B4C-778F-42D7-A7A0-61445DE2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23F-EE3F-47BA-85A8-5F65024D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4C1-951B-4255-859C-9759F27D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D18-07B5-482F-83EE-D06CC688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D7C-9DD1-4D61-8287-C52EDF6E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A0B-A8EA-4EC3-ABF9-8254B156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015-610C-4766-96EB-9733ED2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81F-BA76-4D72-AEAD-62314F9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B61-009B-4B3E-A666-DD08D59ACC3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474920"/>
            <a:ext cx="7436160" cy="35305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365040" y="-237960"/>
            <a:ext cx="23223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66040" y="-311040"/>
            <a:ext cx="2859120" cy="22730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468520" y="225360"/>
            <a:ext cx="423072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286080" y="857160"/>
            <a:ext cx="23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کاشی و سرامی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85840" y="500076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01:48Z</dcterms:modified>
  <cp:revision>44</cp:revision>
  <dc:subject/>
  <dc:title>Slide 1</dc:title>
</cp:coreProperties>
</file>