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3FD-C919-4E8B-9F12-257290C0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71A-7277-46BB-9C1F-E635C3E6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FFA-516A-4D21-87BF-494F1EEA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8E1-9C65-40C5-B642-531B3269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448-C122-4FAC-AC55-8433F375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29F-5F23-453B-8B81-8F05CE1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C61-C038-4F5E-9906-0840C10E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8D3-CAF0-405A-B1D8-6C6C66D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8A5-5249-4BB5-AFA4-9DD9841B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5B0-128B-48AB-868D-C4D3ACD2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BF3-12B6-40B3-B5E9-AB2C8499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E98-6306-4748-A75E-AA41342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C8E8-6A6C-47CA-A060-B39507EEC6C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712800" y="1352520"/>
            <a:ext cx="7504200" cy="3726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494080" y="237960"/>
            <a:ext cx="385740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357720" y="85716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آهن فروش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142920" y="514368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9:21Z</dcterms:modified>
  <cp:revision>46</cp:revision>
  <dc:subject/>
  <dc:title>Slide 1</dc:title>
</cp:coreProperties>
</file>