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14FA-A9A7-40E9-A01F-AD249BCB1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97CE-5709-462B-A42F-46B057D78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197C-C898-4A29-A9A5-E4C5210B7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4E2A-C976-4063-A4CE-D6FC82880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2719-BEF3-4F97-965A-5E0DEEE1A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E9C4-8A39-46F8-84D4-02AD89E87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7C51-6498-4BE8-9C89-01C77B17F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A1AE-82A9-488C-9CCB-5B3503D72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D9F3-9179-44AE-B2C3-5F7BD5679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025A-FDE3-4434-8018-AAAFE34E4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1580-B2FC-4147-86C8-81FF2FBAC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266B-ED6C-44DF-AAF0-F5C0061E9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D6722-3BB0-454A-B65C-32C693BA6EE5}" type="slidenum">
              <a:rPr b="0" lang="fa-I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1" descr="ar3.jpg"/>
          <p:cNvPicPr/>
          <p:nvPr/>
        </p:nvPicPr>
        <p:blipFill>
          <a:blip r:embed="rId1"/>
          <a:stretch/>
        </p:blipFill>
        <p:spPr>
          <a:xfrm>
            <a:off x="1000080" y="357120"/>
            <a:ext cx="6350040" cy="6350040"/>
          </a:xfrm>
          <a:prstGeom prst="rect">
            <a:avLst/>
          </a:prstGeom>
          <a:ln w="0">
            <a:noFill/>
          </a:ln>
        </p:spPr>
      </p:pic>
      <p:pic>
        <p:nvPicPr>
          <p:cNvPr id="42" name="Table 4" descr=""/>
          <p:cNvPicPr/>
          <p:nvPr/>
        </p:nvPicPr>
        <p:blipFill>
          <a:blip r:embed="rId2"/>
          <a:stretch/>
        </p:blipFill>
        <p:spPr>
          <a:xfrm>
            <a:off x="853920" y="811080"/>
            <a:ext cx="7223400" cy="4761000"/>
          </a:xfrm>
          <a:prstGeom prst="rect">
            <a:avLst/>
          </a:prstGeom>
          <a:ln w="0">
            <a:noFill/>
          </a:ln>
        </p:spPr>
      </p:pic>
      <p:pic>
        <p:nvPicPr>
          <p:cNvPr id="43" name="TextBox 5" descr=""/>
          <p:cNvPicPr/>
          <p:nvPr/>
        </p:nvPicPr>
        <p:blipFill>
          <a:blip r:embed="rId3"/>
          <a:stretch/>
        </p:blipFill>
        <p:spPr>
          <a:xfrm>
            <a:off x="-152280" y="-165240"/>
            <a:ext cx="2322360" cy="2152800"/>
          </a:xfrm>
          <a:prstGeom prst="rect">
            <a:avLst/>
          </a:prstGeom>
          <a:ln w="0">
            <a:noFill/>
          </a:ln>
        </p:spPr>
      </p:pic>
      <p:pic>
        <p:nvPicPr>
          <p:cNvPr id="44" name="TextBox 6" descr=""/>
          <p:cNvPicPr/>
          <p:nvPr/>
        </p:nvPicPr>
        <p:blipFill>
          <a:blip r:embed="rId4"/>
          <a:stretch/>
        </p:blipFill>
        <p:spPr>
          <a:xfrm>
            <a:off x="6456240" y="-165240"/>
            <a:ext cx="2853000" cy="2275200"/>
          </a:xfrm>
          <a:prstGeom prst="rect">
            <a:avLst/>
          </a:prstGeom>
          <a:ln w="0">
            <a:noFill/>
          </a:ln>
        </p:spPr>
      </p:pic>
      <p:pic>
        <p:nvPicPr>
          <p:cNvPr id="45" name="TextBox 8" descr=""/>
          <p:cNvPicPr/>
          <p:nvPr/>
        </p:nvPicPr>
        <p:blipFill>
          <a:blip r:embed="rId5"/>
          <a:stretch/>
        </p:blipFill>
        <p:spPr>
          <a:xfrm>
            <a:off x="1566720" y="-60480"/>
            <a:ext cx="4510080" cy="614520"/>
          </a:xfrm>
          <a:prstGeom prst="rect">
            <a:avLst/>
          </a:prstGeom>
          <a:ln w="0">
            <a:noFill/>
          </a:ln>
        </p:spPr>
      </p:pic>
      <p:sp>
        <p:nvSpPr>
          <p:cNvPr id="46" name="TextBox 9"/>
          <p:cNvSpPr/>
          <p:nvPr/>
        </p:nvSpPr>
        <p:spPr>
          <a:xfrm>
            <a:off x="2834640" y="428760"/>
            <a:ext cx="258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17375e"/>
                </a:solidFill>
                <a:latin typeface="Calibri"/>
                <a:cs typeface="B Farnaz"/>
              </a:rPr>
              <a:t>طراحی شده ویژه هت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ooter Placeholder 10"/>
          <p:cNvSpPr/>
          <p:nvPr/>
        </p:nvSpPr>
        <p:spPr>
          <a:xfrm>
            <a:off x="-71280" y="5643720"/>
            <a:ext cx="785808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Times New Roman"/>
                <a:cs typeface="B Homa"/>
              </a:rPr>
              <a:t>آدرس : خراسان رضوی، مشهدمقدس ،بلوارشهیددستغیب ،شهیددستغیب 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ea typeface="B Homa"/>
              </a:rPr>
              <a:t>18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ea typeface="B Homa"/>
              </a:rPr>
              <a:t> ،سمت چپ ،سرنبش سه راه ،پلاک 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ea typeface="B Homa"/>
              </a:rPr>
              <a:t>97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cs typeface="B Homa"/>
              </a:rPr>
              <a:t>،طبقه او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Times New Roman"/>
                <a:cs typeface="B Homa"/>
              </a:rPr>
              <a:t>تلفن :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B Homa"/>
              </a:rPr>
              <a:t>0511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B Homa"/>
              </a:rPr>
              <a:t>-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B Homa"/>
              </a:rPr>
              <a:t>7630374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B Homa"/>
              </a:rPr>
              <a:t>  </a:t>
            </a:r>
            <a:r>
              <a:rPr b="0" lang="fa-IR" sz="900" spc="-1" strike="noStrike">
                <a:solidFill>
                  <a:srgbClr val="000000"/>
                </a:solidFill>
                <a:latin typeface="Times New Roman"/>
                <a:ea typeface="B Homa"/>
              </a:rPr>
              <a:t>        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cs typeface="B Homa"/>
              </a:rPr>
              <a:t>مدیریت :  </a:t>
            </a:r>
            <a:r>
              <a:rPr b="0" lang="fa-IR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155178075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و </a:t>
            </a:r>
            <a:r>
              <a:rPr b="0" lang="fa-IR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38566038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Times New Roman"/>
                <a:cs typeface="B Homa"/>
              </a:rPr>
              <a:t>ایمیل :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B Homa"/>
              </a:rPr>
              <a:t>novin_narmafzar75@yahoo.com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ea typeface="B Homa"/>
              </a:rPr>
              <a:t>                        آدرس اینترنتی :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B Homa"/>
              </a:rPr>
              <a:t>www.novinrayan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B Homa"/>
              </a:rPr>
              <a:t>                                                سفارشات نرم افزار و طراحی سایت پذیرفته می شو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0T08:50:56Z</dcterms:created>
  <dc:creator>a</dc:creator>
  <dc:description/>
  <dc:language>en-US</dc:language>
  <cp:lastModifiedBy>novinrayane</cp:lastModifiedBy>
  <dcterms:modified xsi:type="dcterms:W3CDTF">2013-11-11T06:58:28Z</dcterms:modified>
  <cp:revision>39</cp:revision>
  <dc:subject/>
  <dc:title>Slide 1</dc:title>
</cp:coreProperties>
</file>