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CA2-24D0-48B9-BC38-F01AB96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0F4-66F6-4C6D-9BBA-BAC238FB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FC3-4434-4A3E-A439-523F9EFB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31F-5BF2-4E3A-ABFB-1375C63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827-F339-4086-A172-3DDCA054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091-BF40-467D-B8D3-488C6F0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6A3-8B34-42F1-9639-1E1AAAD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E8F-0739-4665-9BE6-407F2E4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F27-1A73-4A97-9C78-F5F3CC6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82F-16E7-40E6-9BBC-28D7C6F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B11-ED80-43C9-AD3A-AC8AAEC9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223-C920-4513-8428-8D8EEB7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3C24-E6AD-4B3D-8043-61258B30C4C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639720"/>
            <a:ext cx="7436160" cy="51148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352520" y="36360"/>
            <a:ext cx="519444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950480" y="35712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درمانگاه و بیمارست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571500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4:23Z</dcterms:modified>
  <cp:revision>49</cp:revision>
  <dc:subject/>
  <dc:title>Slide 1</dc:title>
</cp:coreProperties>
</file>