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377B-72B5-4AD8-A119-FE55BA91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747C-5C7F-48E0-9290-A8915A85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78F1-141C-4F03-A500-D104A815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E88E-9074-4A55-AFBD-5B0A93559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56C6-04B0-4170-B5AD-AB6D3E5C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1A69-8B11-4CF4-B7D6-7D8BDDC0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1626-4143-4CB9-9ACF-A927B749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1D9E-BD39-4C58-B9A9-B0082067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7214-4572-4247-8291-E21A2284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0441-281C-4ACA-8B7E-0A469296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17AD-33D8-4559-AA74-D0642D76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5BA0-0FE5-4697-BD1A-C933D91E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F5B4-7EEA-482D-878D-BB98D1BAE01C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ar3.jpg"/>
          <p:cNvPicPr/>
          <p:nvPr/>
        </p:nvPicPr>
        <p:blipFill>
          <a:blip r:embed="rId1"/>
          <a:stretch/>
        </p:blipFill>
        <p:spPr>
          <a:xfrm>
            <a:off x="1000080" y="357120"/>
            <a:ext cx="6350040" cy="6350040"/>
          </a:xfrm>
          <a:prstGeom prst="rect">
            <a:avLst/>
          </a:prstGeom>
          <a:ln w="0">
            <a:noFill/>
          </a:ln>
        </p:spPr>
      </p:pic>
      <p:pic>
        <p:nvPicPr>
          <p:cNvPr id="42" name="Table 4" descr=""/>
          <p:cNvPicPr/>
          <p:nvPr/>
        </p:nvPicPr>
        <p:blipFill>
          <a:blip r:embed="rId2"/>
          <a:stretch/>
        </p:blipFill>
        <p:spPr>
          <a:xfrm>
            <a:off x="853920" y="1285920"/>
            <a:ext cx="7223400" cy="394488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-152280" y="-165240"/>
            <a:ext cx="2322360" cy="215280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4"/>
          <a:stretch/>
        </p:blipFill>
        <p:spPr>
          <a:xfrm>
            <a:off x="6456240" y="-165240"/>
            <a:ext cx="2853000" cy="22752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5"/>
          <a:stretch/>
        </p:blipFill>
        <p:spPr>
          <a:xfrm>
            <a:off x="1494000" y="347760"/>
            <a:ext cx="4376520" cy="615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2757960" y="92880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7375e"/>
                </a:solidFill>
                <a:latin typeface="Calibri"/>
                <a:cs typeface="B Farnaz"/>
              </a:rPr>
              <a:t>طراحی شده ویژه انبار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0" y="5286240"/>
            <a:ext cx="785808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آدرس : خراسان رضوی، مشهدمقدس ،بلوارشهیددستغیب ،شهیددستغیب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18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،سمت چپ ،سرنبش سه راه ،پلاک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9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،طبقه او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تلفن 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05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76303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  </a:t>
            </a:r>
            <a:r>
              <a:rPr b="0" lang="fa-IR" sz="9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مدیریت : 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155178075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385660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ایمیل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novin_narmafzar75@yahoo.com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آدرس اینترنتی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www.novinrayan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                        سفارشات نرم افزار و طراحی سایت پذیرفته می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50:56Z</dcterms:created>
  <dc:creator>a</dc:creator>
  <dc:description/>
  <dc:language>en-US</dc:language>
  <cp:lastModifiedBy>novinrayane</cp:lastModifiedBy>
  <dcterms:modified xsi:type="dcterms:W3CDTF">2013-11-11T06:06:54Z</dcterms:modified>
  <cp:revision>38</cp:revision>
  <dc:subject/>
  <dc:title>Slide 1</dc:title>
</cp:coreProperties>
</file>