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A58-6C6C-44E0-BB2D-E33B7375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E02-169E-4E13-966D-F6ADAC57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340-6732-4538-AC68-74F77F99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691-8FAB-45B1-BD70-3DFDC59C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883-0567-495C-9387-CD241FDF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2B1-2B81-4FEF-93AB-213FEA48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D98-E0BF-4488-8722-1ED9A7D1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B94-819A-4D08-97CF-AD88E8ED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653-8C24-40FB-BE3F-43296057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E36-0265-4607-89FD-BAE86F0B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503-CFDB-4B25-AFC5-DE623B0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FD5-22B8-43CF-AEBA-4FDA4EBD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F3DE-E02B-459B-B403-8357777D6D23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68280"/>
            <a:ext cx="7223400" cy="39499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494000" y="274680"/>
            <a:ext cx="454644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721240" y="844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اصن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-71280" y="521496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05:18Z</dcterms:modified>
  <cp:revision>41</cp:revision>
  <dc:subject/>
  <dc:title>Slide 1</dc:title>
</cp:coreProperties>
</file>