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3CB-2A91-489C-94B1-8A9BFB4B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326-F911-4636-8FC5-6A1AC69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94C-7B2B-4A80-A4CB-80F1E382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CDD-9968-4F7B-A7CD-3B3CF44F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407-E1F5-4F48-A8E5-10FE7E0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E74-19EB-409C-8072-4B837AA3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2A2-1CB2-40A3-B8D8-B39F6CA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AB9-335F-41D5-A567-EE7056D5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B34-F013-4478-BB0C-08037592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577-30E4-478F-B92F-09DFF9A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701-F627-449F-8D45-5B86D8A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F7A-EF93-48AE-9CCE-299D04C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1140-5D3C-4DEC-AEFE-6CD5A3028A7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4438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60680" y="347760"/>
            <a:ext cx="341928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603520" y="9288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ولید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1500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8:05:01Z</dcterms:modified>
  <cp:revision>41</cp:revision>
  <dc:subject/>
  <dc:title>Slide 1</dc:title>
</cp:coreProperties>
</file>