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918-985D-4169-ADAD-5EED4FB2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399-78B6-4201-893F-5C06E146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711-686D-40ED-A529-5A50807E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533-F7D1-4247-8C2B-56CE0F70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85A-6C97-42F4-87BB-6C24F631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7C1-C3FB-4D3B-9A48-087FA09A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A3D-976D-425C-BACD-66E5AF6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F17-8F37-46A2-9C2A-9A241ECE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226-CBE1-449D-8719-AFFA5BC9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865-BBBE-45D4-9E90-76752B4D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0FA-A0D8-4DDF-B402-1B2D19D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F56-378A-48D4-B7C9-7A39451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1CF-9A82-480D-A9E6-AEE81F2CF21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712800"/>
            <a:ext cx="7223400" cy="51451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3224160" y="-79200"/>
            <a:ext cx="2378160" cy="615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071880" y="41580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آژانس ها و پیک موتوری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786280"/>
            <a:ext cx="7858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8:00:55Z</dcterms:modified>
  <cp:revision>42</cp:revision>
  <dc:subject/>
  <dc:title>Slide 1</dc:title>
</cp:coreProperties>
</file>