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56A-3932-49D8-9FBC-2C2B7A61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6AD-5EC5-4985-B469-812D0CFB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29F-328E-4A32-A9DF-90E32F2A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509-6137-4776-8CEA-675B9801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33B-F2DC-4F0E-BFA5-54C73611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536-6030-4EEF-85EE-D35CCE61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623-250A-4A41-BC70-B6C4CDC5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227-DADB-48A5-81B4-AC895899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D14-7ABE-4070-95A2-422B9633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CD6-4F72-491B-8835-1AA2137D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26A-AE49-4B3D-A3D5-E2CC2C8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91B-4B24-44BF-B573-337FB903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B2C3-8B10-4B85-B5A1-576B095729F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981000"/>
            <a:ext cx="7436160" cy="48103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365040" y="-237960"/>
            <a:ext cx="232236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566040" y="-311040"/>
            <a:ext cx="2859120" cy="22730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840040" y="-79200"/>
            <a:ext cx="3274920" cy="615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643200" y="558720"/>
            <a:ext cx="17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مط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214200" y="5786280"/>
            <a:ext cx="78580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17:09Z</dcterms:modified>
  <cp:revision>47</cp:revision>
  <dc:subject/>
  <dc:title>Slide 1</dc:title>
</cp:coreProperties>
</file>