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419-EFA4-49B8-B217-897DA9E7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6D0-8C8B-4382-8EAC-B352C9C8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02E-2A3C-4186-8A12-58E21F6E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BB3-C37E-45F5-A2B0-9D25494F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0CD-AF21-4BFE-8405-B4AC1D7C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625-BA58-4B6C-8E17-40FCEA27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D9F-92E2-4469-AC75-13B9A18E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8BD-E926-453F-93E0-6A0EAEA2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77B-2A2D-4426-B0EE-D63B6482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ABC-A657-4FF0-B08F-CD23573F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F66-383C-42F4-8F94-BEB64397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B88-AE3B-4FB0-B8A9-33A6F83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E9FF-1EE9-49FF-AF71-B4126823BD3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993600"/>
            <a:ext cx="7223400" cy="4437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517840" y="60480"/>
            <a:ext cx="365760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500280" y="5716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پیمانکار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429160"/>
            <a:ext cx="7858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49:40Z</dcterms:modified>
  <cp:revision>38</cp:revision>
  <dc:subject/>
  <dc:title>Slide 1</dc:title>
</cp:coreProperties>
</file>